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7FA-24DC-4912-833D-7EDA06C7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D66-79A8-4515-8B83-134A79D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99A-3102-4733-A417-CC5C8AC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64F-7E89-4C5F-82DC-0FE5F62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B255-21AB-4FBD-B454-687C74EE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5AA-3D78-4015-B116-F627950B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276-92B5-421A-B0C7-33C48FFF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09C-B429-469F-A7B1-4FE3654C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DE1E-9CA8-41AE-AC0F-7F8B975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64B-0CCE-405F-9DEE-3A06AA86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DFF-CBB9-47C3-8DF0-23C5626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979-B9C6-49E1-9E53-ECADACFB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299-4D39-4971-A2E5-7CCA7C9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BBF-C9B3-4113-B1D6-73021F8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181-4D5F-4B1D-8336-FDD8306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7956-9B32-475F-9C9A-7AF370EF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2A49-DC31-4792-BC62-F27F6DFE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BA9-2D64-4FC8-8A61-221A3BB4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0BD-C0E1-46DA-B8B4-22574D42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581-F488-4469-9D4B-B83C3449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E27-8CD6-4D5C-B690-F6A79E1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799-0AED-45C7-B404-3AC6E1D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7FA-779B-4C7C-8E73-6BE74E0B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17A-0615-4EC3-9E4D-DD6FCA3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AE24-3156-41FE-B233-974B3F83331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5BA0-E96E-4D0A-B469-B2DE40EE12F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Lorenza%20action%20research%20Al%20Bayan%20SE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V: Dissemination: Reporting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mitation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research can be the base for other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ocu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ignificance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..\Lorenza action research Al Bayan S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structure and organization of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ritten as last part but after title in impag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and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a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ort must be organized in a way that one part lead to the other and it is easy for the reader to understand and follow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layout: Cover (title, date, place), page numbers, table of content, consistency in headings (1,2,3..) (font, size, style), headings 1 or new chapter always in a new page, don’t leave orphan or widow lines, IBC model, correct bibli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ifferent ways of reporting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urpose of the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ization and structure of a written research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sing technology to report a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Different ways of reporting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l Written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very attractive way to present find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 can show the proces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would need some explan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dispersive and not let audience focus on the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Audio 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use  to report a story summary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ful when some interesting data came up in interviews where to listen to the answer can clarify the interpretation of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converted to a pod cast so the listener can take it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l written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it fits more to long scientific researches published on scientific journals and 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can be included as evid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can also be used, formatted in a simple way as completion of a power-point pres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Point 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present findings face to 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presents just the main ideas (usually followed by a written repo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ows interaction between presenter and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the present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background and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headings on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 language, tone of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nt: style, size, consisten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6-02T08:57:15Z</dcterms:modified>
  <cp:revision>98</cp:revision>
  <dc:subject/>
  <dc:title>Course: Fundamentals of Research</dc:title>
</cp:coreProperties>
</file>